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51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44.jpeg" ContentType="image/jpeg"/>
  <Override PartName="/ppt/media/image38.jpeg" ContentType="image/jpeg"/>
  <Override PartName="/ppt/media/image43.jpeg" ContentType="image/jpeg"/>
  <Override PartName="/ppt/media/image35.png" ContentType="image/png"/>
  <Override PartName="/ppt/media/image32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49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3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E5BA-04CA-42A9-BA17-398F25DAD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775B-560D-4F63-AB0E-5C6AF3DE5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56E7-A963-42C9-BEC1-58A6B1B63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A12C-0B38-40EB-B602-159AAC2E1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081D-B0F0-443B-9916-DBC94353A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4EA3-0789-4403-8CC8-CBBE3E37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CBB7-3662-4F59-8BC5-894974E85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4591-4CFF-41C6-93DF-1E9F98F39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ECAC-EE04-42B6-9A20-22CC0589C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D828-7B41-4B91-954F-EE190FB1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D2BD-EFB7-4577-B16C-8A003854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A48E-F28D-41E4-9A0A-9CD0FCAA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7ACC3-28D9-4669-AA34-841A676AC90A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pn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539640" y="404640"/>
            <a:ext cx="7920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LLEGAMENTI PERMAN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HIODATURE – SALDATURE – INCOLLAGG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250920" y="1773360"/>
            <a:ext cx="889308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e chiodature non vengono quasi più utilizzate perché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- I metodi di controllo moderni consentono di utilizzare le saldature, più convenienti, che non appesantiscono i giu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- La saldatura può essere fatta più agevolmente in op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e chiodature richiedono una elevata precisione nel montagg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e chiodature vengono ancora molto utilizzate in aeronautica perch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 materiali compositi non possono essere sald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e leghe leggere hanno il problema della “mappatur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bulloneria crea problemi aerodinamici e di sicurez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5r"/>
          <p:cNvPicPr/>
          <p:nvPr/>
        </p:nvPicPr>
        <p:blipFill>
          <a:blip r:embed="rId1"/>
          <a:stretch/>
        </p:blipFill>
        <p:spPr>
          <a:xfrm>
            <a:off x="539640" y="363600"/>
            <a:ext cx="7885080" cy="64944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0" y="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apporti tra dimensioni chiodi, spessori lamiere, posizionamento f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611280" y="4724280"/>
            <a:ext cx="7920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Giunti a sovrapposizione, a coprigiunto, a doppio coprigiu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6r"/>
          <p:cNvPicPr/>
          <p:nvPr/>
        </p:nvPicPr>
        <p:blipFill>
          <a:blip r:embed="rId1"/>
          <a:stretch/>
        </p:blipFill>
        <p:spPr>
          <a:xfrm>
            <a:off x="0" y="-458640"/>
            <a:ext cx="9144000" cy="51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0" y="4941720"/>
            <a:ext cx="27003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IVETTI CIEC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 sinistra la fase di montagg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 destra la posizione fi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71"/>
          <p:cNvPicPr/>
          <p:nvPr/>
        </p:nvPicPr>
        <p:blipFill>
          <a:blip r:embed="rId1"/>
          <a:stretch/>
        </p:blipFill>
        <p:spPr>
          <a:xfrm>
            <a:off x="0" y="0"/>
            <a:ext cx="2933640" cy="4292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72"/>
          <p:cNvPicPr/>
          <p:nvPr/>
        </p:nvPicPr>
        <p:blipFill>
          <a:blip r:embed="rId2"/>
          <a:stretch/>
        </p:blipFill>
        <p:spPr>
          <a:xfrm>
            <a:off x="3276720" y="2276640"/>
            <a:ext cx="2544480" cy="3375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73"/>
          <p:cNvPicPr/>
          <p:nvPr/>
        </p:nvPicPr>
        <p:blipFill>
          <a:blip r:embed="rId3"/>
          <a:stretch/>
        </p:blipFill>
        <p:spPr>
          <a:xfrm>
            <a:off x="2916360" y="0"/>
            <a:ext cx="2808000" cy="2130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74"/>
          <p:cNvPicPr/>
          <p:nvPr/>
        </p:nvPicPr>
        <p:blipFill>
          <a:blip r:embed="rId4"/>
          <a:stretch/>
        </p:blipFill>
        <p:spPr>
          <a:xfrm>
            <a:off x="6176880" y="0"/>
            <a:ext cx="296712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8"/>
          <p:cNvPicPr/>
          <p:nvPr/>
        </p:nvPicPr>
        <p:blipFill>
          <a:blip r:embed="rId1"/>
          <a:stretch/>
        </p:blipFill>
        <p:spPr>
          <a:xfrm>
            <a:off x="0" y="382680"/>
            <a:ext cx="8893080" cy="64753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0" y="0"/>
            <a:ext cx="8964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IVETTI PER USO AREONAUTICO - con identificazione del materi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9"/>
          <p:cNvPicPr/>
          <p:nvPr/>
        </p:nvPicPr>
        <p:blipFill>
          <a:blip r:embed="rId1"/>
          <a:stretch/>
        </p:blipFill>
        <p:spPr>
          <a:xfrm>
            <a:off x="539640" y="404640"/>
            <a:ext cx="7680600" cy="577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10"/>
          <p:cNvPicPr/>
          <p:nvPr/>
        </p:nvPicPr>
        <p:blipFill>
          <a:blip r:embed="rId1"/>
          <a:stretch/>
        </p:blipFill>
        <p:spPr>
          <a:xfrm>
            <a:off x="609480" y="949320"/>
            <a:ext cx="792504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3"/>
          <p:cNvSpPr/>
          <p:nvPr/>
        </p:nvSpPr>
        <p:spPr>
          <a:xfrm>
            <a:off x="1403280" y="26028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IVETTI ESPLOS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11r"/>
          <p:cNvPicPr/>
          <p:nvPr/>
        </p:nvPicPr>
        <p:blipFill>
          <a:blip r:embed="rId1"/>
          <a:stretch/>
        </p:blipFill>
        <p:spPr>
          <a:xfrm>
            <a:off x="1258920" y="692280"/>
            <a:ext cx="5575320" cy="59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"/>
          <p:cNvSpPr/>
          <p:nvPr/>
        </p:nvSpPr>
        <p:spPr>
          <a:xfrm>
            <a:off x="324000" y="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ALDA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0" y="620640"/>
            <a:ext cx="9144000" cy="62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terogena o bras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rasatura ( a resistenza elettrica, con saldatore ad induzione, in forn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aldobrasatura ( a fiamma ossiacetilenica, ad arc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utog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ess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ttr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plos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ltrasu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lettrica a resistenza (a punti o cucitura con rull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us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lettrica ad arco (idrogeno atomico, plasma, atmosfera protettiv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d arco sommerso, ad arco protet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as (ossidrica, ossiacetilen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lluminotermi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611280" y="404640"/>
            <a:ext cx="7705800" cy="51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rasatur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empre con metallo d’apporto bassofondente rispetto agli elementi da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iuntare per salvaguardia dei pezzi, per saldature ripet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ecessaria buona pulizia dei pezzi da giunt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ezzi non devono essere a contatto altrimenti non è possibile interporre il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etallo d’appo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mperature &lt; 45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aldobrasatu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eparazione del giunto tipica della saldatura autoge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eghe di apporto fondenti a temperature inferiori ai metalli del giu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ottoni fondenti a temperature relativamente elevate: per la saldobrasatura dell’acciaio tra 800÷950°C, per la ghisa tra 650÷800°C, per il rame e i bronzi tra 850÷950°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8"/>
          <p:cNvSpPr/>
          <p:nvPr/>
        </p:nvSpPr>
        <p:spPr>
          <a:xfrm>
            <a:off x="0" y="1268280"/>
            <a:ext cx="2556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 M.A.G. (Metal Active Gas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altro ancora di uso corrente (gas argon o anidride carbonica). La saldatura MIG e MAG è anche detta a filo continu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ra le saldature ad arco in atmosfera protetti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.M.A.W. (Gas Metal Arc Welding) che nella simbologia internazionale ha sostituito le precedenti M.I.G. (Metal Inert G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0" descr="MIGMAG"/>
          <p:cNvPicPr/>
          <p:nvPr/>
        </p:nvPicPr>
        <p:blipFill>
          <a:blip r:embed="rId1"/>
          <a:stretch/>
        </p:blipFill>
        <p:spPr>
          <a:xfrm>
            <a:off x="2340000" y="1547640"/>
            <a:ext cx="6804000" cy="53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3"/>
          <p:cNvSpPr/>
          <p:nvPr/>
        </p:nvSpPr>
        <p:spPr>
          <a:xfrm>
            <a:off x="4067280" y="189000"/>
            <a:ext cx="46814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secuzione di una chiodatura tradizionale con testa e controte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convenien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ichiede elevata precisione di montagg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826920" y="4869000"/>
            <a:ext cx="72010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iodatura a caldo: necessaria per chiodi con diametro del gambo &gt; 8 m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iodatura a freddo: con ribattin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1r"/>
          <p:cNvPicPr/>
          <p:nvPr/>
        </p:nvPicPr>
        <p:blipFill>
          <a:blip r:embed="rId1"/>
          <a:stretch/>
        </p:blipFill>
        <p:spPr>
          <a:xfrm>
            <a:off x="0" y="836640"/>
            <a:ext cx="3924360" cy="28652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9"/>
          <p:cNvSpPr/>
          <p:nvPr/>
        </p:nvSpPr>
        <p:spPr>
          <a:xfrm>
            <a:off x="250920" y="3716280"/>
            <a:ext cx="381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 inserzione del chi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 ricalcatura della controtes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5"/>
          <p:cNvSpPr/>
          <p:nvPr/>
        </p:nvSpPr>
        <p:spPr>
          <a:xfrm>
            <a:off x="0" y="0"/>
            <a:ext cx="79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IG (Tungsten Inert Gas): viene utilizzato per saldare acciai comuni ma anche per acciai inossidabili, inconel, monel, rame e sue leghe. Elettrodo di tungsteno, gas di protezione elio, argon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mig2"/>
          <p:cNvPicPr/>
          <p:nvPr/>
        </p:nvPicPr>
        <p:blipFill>
          <a:blip r:embed="rId1"/>
          <a:stretch/>
        </p:blipFill>
        <p:spPr>
          <a:xfrm>
            <a:off x="5003640" y="4459320"/>
            <a:ext cx="4140360" cy="23986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tig2"/>
          <p:cNvPicPr/>
          <p:nvPr/>
        </p:nvPicPr>
        <p:blipFill>
          <a:blip r:embed="rId2"/>
          <a:stretch/>
        </p:blipFill>
        <p:spPr>
          <a:xfrm>
            <a:off x="0" y="1844640"/>
            <a:ext cx="5003640" cy="42940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9"/>
          <p:cNvSpPr/>
          <p:nvPr/>
        </p:nvSpPr>
        <p:spPr>
          <a:xfrm>
            <a:off x="5364000" y="2708280"/>
            <a:ext cx="3780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IG-M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13"/>
          <p:cNvPicPr/>
          <p:nvPr/>
        </p:nvPicPr>
        <p:blipFill>
          <a:blip r:embed="rId1"/>
          <a:stretch/>
        </p:blipFill>
        <p:spPr>
          <a:xfrm>
            <a:off x="0" y="0"/>
            <a:ext cx="914400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539640" y="404640"/>
            <a:ext cx="8064720" cy="49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EAZIONI SALDATURA PER FUSIONE A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iamma ossiacetile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it-IT" sz="2400" spc="-1" strike="noStrike" baseline="-10000">
                <a:solidFill>
                  <a:srgbClr val="000000"/>
                </a:solidFill>
                <a:latin typeface="Arial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it-IT" sz="2400" spc="-1" strike="noStrike" baseline="-10000">
                <a:solidFill>
                  <a:srgbClr val="000000"/>
                </a:solidFill>
                <a:latin typeface="Arial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+ 5/2 O</a:t>
            </a:r>
            <a:r>
              <a:rPr b="0" lang="it-IT" sz="2400" spc="-1" strike="noStrike" baseline="-10000">
                <a:solidFill>
                  <a:srgbClr val="000000"/>
                </a:solidFill>
                <a:latin typeface="Arial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= 2CO</a:t>
            </a:r>
            <a:r>
              <a:rPr b="0" lang="it-IT" sz="2400" spc="-1" strike="noStrike" baseline="-10000">
                <a:solidFill>
                  <a:srgbClr val="000000"/>
                </a:solidFill>
                <a:latin typeface="Arial"/>
              </a:rPr>
              <a:t>2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it-IT" sz="2400" spc="-1" strike="noStrike" baseline="-10000">
                <a:solidFill>
                  <a:srgbClr val="000000"/>
                </a:solidFill>
                <a:latin typeface="Arial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iamma ossidri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it-IT" sz="2400" spc="-1" strike="noStrike" baseline="-10000">
                <a:solidFill>
                  <a:srgbClr val="000000"/>
                </a:solidFill>
                <a:latin typeface="Arial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+ 1/2 O</a:t>
            </a:r>
            <a:r>
              <a:rPr b="0" lang="it-IT" sz="2400" spc="-1" strike="noStrike" baseline="-10000">
                <a:solidFill>
                  <a:srgbClr val="000000"/>
                </a:solidFill>
                <a:latin typeface="Arial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= H</a:t>
            </a:r>
            <a:r>
              <a:rPr b="0" lang="it-IT" sz="2400" spc="-1" strike="noStrike" baseline="-10000">
                <a:solidFill>
                  <a:srgbClr val="000000"/>
                </a:solidFill>
                <a:latin typeface="Arial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’ossigeno è fornito dall’ambiente ma soprattutto dalla bombola. La fiamma ossidriga sviluppa principalmente vapore acqueo. L’uso delle fiamme è per la saldatura (non industriale), per la saldobrasatura, per il taglio alla fiam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14r"/>
          <p:cNvPicPr/>
          <p:nvPr/>
        </p:nvPicPr>
        <p:blipFill>
          <a:blip r:embed="rId1"/>
          <a:stretch/>
        </p:blipFill>
        <p:spPr>
          <a:xfrm>
            <a:off x="0" y="0"/>
            <a:ext cx="9144000" cy="56167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4"/>
          <p:cNvSpPr/>
          <p:nvPr/>
        </p:nvSpPr>
        <p:spPr>
          <a:xfrm>
            <a:off x="468360" y="551664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aldatura ad arco elettrico (con elettrodo a perde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3"/>
          <p:cNvSpPr/>
          <p:nvPr/>
        </p:nvSpPr>
        <p:spPr>
          <a:xfrm>
            <a:off x="3635280" y="0"/>
            <a:ext cx="5508720" cy="60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LETTRODO RIVESTITO (o a perde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 metallo d’apporto all’interno dell’elettro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LETTRODO DI TUNGSTE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etallo d’apporto a pa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UNZIONI ELETTRO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viluppare gas che proteggono da ossidazione e ionizzanti per condurre corrente elettrica e stabilizzare l’ar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pportare elementi che migliorano le caratteristiche del giunto ed abbassano leggermente la temperatura di fus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rmazione di scoria fusa che protegge il giu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15r"/>
          <p:cNvPicPr/>
          <p:nvPr/>
        </p:nvPicPr>
        <p:blipFill>
          <a:blip r:embed="rId1"/>
          <a:stretch/>
        </p:blipFill>
        <p:spPr>
          <a:xfrm>
            <a:off x="0" y="0"/>
            <a:ext cx="3638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16"/>
          <p:cNvPicPr/>
          <p:nvPr/>
        </p:nvPicPr>
        <p:blipFill>
          <a:blip r:embed="rId1"/>
          <a:stretch/>
        </p:blipFill>
        <p:spPr>
          <a:xfrm>
            <a:off x="13320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17"/>
          <p:cNvPicPr/>
          <p:nvPr/>
        </p:nvPicPr>
        <p:blipFill>
          <a:blip r:embed="rId1"/>
          <a:stretch/>
        </p:blipFill>
        <p:spPr>
          <a:xfrm>
            <a:off x="1403280" y="0"/>
            <a:ext cx="5943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18"/>
          <p:cNvPicPr/>
          <p:nvPr/>
        </p:nvPicPr>
        <p:blipFill>
          <a:blip r:embed="rId1"/>
          <a:stretch/>
        </p:blipFill>
        <p:spPr>
          <a:xfrm>
            <a:off x="1692360" y="0"/>
            <a:ext cx="5364000" cy="26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19"/>
          <p:cNvPicPr/>
          <p:nvPr/>
        </p:nvPicPr>
        <p:blipFill>
          <a:blip r:embed="rId1"/>
          <a:stretch/>
        </p:blipFill>
        <p:spPr>
          <a:xfrm>
            <a:off x="0" y="765000"/>
            <a:ext cx="5248440" cy="5301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3"/>
          <p:cNvSpPr/>
          <p:nvPr/>
        </p:nvSpPr>
        <p:spPr>
          <a:xfrm>
            <a:off x="5651640" y="1989000"/>
            <a:ext cx="28080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aldatura a punti (tipica delle carrozzerie auto, elettrodomestic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20"/>
          <p:cNvPicPr/>
          <p:nvPr/>
        </p:nvPicPr>
        <p:blipFill>
          <a:blip r:embed="rId1"/>
          <a:stretch/>
        </p:blipFill>
        <p:spPr>
          <a:xfrm>
            <a:off x="0" y="0"/>
            <a:ext cx="831708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3"/>
          <p:cNvSpPr/>
          <p:nvPr/>
        </p:nvSpPr>
        <p:spPr>
          <a:xfrm>
            <a:off x="4356000" y="333360"/>
            <a:ext cx="478800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PERAZIONI CHIODA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ra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ianfrinatura: svasatura della parte esterna del foro per adeguarlo alla geometria del chio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serzione chio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icalca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3r"/>
          <p:cNvPicPr/>
          <p:nvPr/>
        </p:nvPicPr>
        <p:blipFill>
          <a:blip r:embed="rId1"/>
          <a:stretch/>
        </p:blipFill>
        <p:spPr>
          <a:xfrm>
            <a:off x="0" y="0"/>
            <a:ext cx="4181400" cy="6093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3635280" y="3357720"/>
            <a:ext cx="55087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hiodatura a caldo: buona tenuta verticale per la compressione generata, l’attrito tra le lamiere evita il rischio di traslazioni per i vuoti che si possono creare nel ritiro del metallo del chi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) Chiodatura a freddo: buona tenuta alla traslazione per l’attrito generato nella ricalcatura del chiodo sia tra le lamiere che tra chiodo e cavità cilind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250920" y="189000"/>
            <a:ext cx="49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BRASA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0" y="620640"/>
            <a:ext cx="45720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empi tipici di brasatu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rasatura di componenti elettrici ed elettronici in rame con stag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rasatura di tubazioni in rame con ott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rasatura degli inserti in metallo duro sugli utensili per le lavorazioni meccaniche per asportazione di trucio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http://www.spiega.com/pict/circuito_stampato.jpg"/>
          <p:cNvPicPr/>
          <p:nvPr/>
        </p:nvPicPr>
        <p:blipFill>
          <a:blip r:embed="rId1"/>
          <a:stretch/>
        </p:blipFill>
        <p:spPr>
          <a:xfrm>
            <a:off x="4932360" y="189000"/>
            <a:ext cx="3672000" cy="2868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http://www.italbras.it/download/BT/news/Lega%20brasante%20CuP%20big.JPG"/>
          <p:cNvPicPr/>
          <p:nvPr/>
        </p:nvPicPr>
        <p:blipFill>
          <a:blip r:embed="rId2"/>
          <a:stretch/>
        </p:blipFill>
        <p:spPr>
          <a:xfrm>
            <a:off x="324000" y="3213000"/>
            <a:ext cx="3771720" cy="2362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"/>
          <p:cNvPicPr/>
          <p:nvPr/>
        </p:nvPicPr>
        <p:blipFill>
          <a:blip r:embed="rId3"/>
          <a:stretch/>
        </p:blipFill>
        <p:spPr>
          <a:xfrm>
            <a:off x="395280" y="5877000"/>
            <a:ext cx="3552840" cy="8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4" descr="http://thumbs4.ebaystatic.com/m/ml9vg-NQHJsIeBkNn3b2sLQ/140.jpg"/>
          <p:cNvPicPr/>
          <p:nvPr/>
        </p:nvPicPr>
        <p:blipFill>
          <a:blip r:embed="rId4"/>
          <a:stretch/>
        </p:blipFill>
        <p:spPr>
          <a:xfrm>
            <a:off x="4859280" y="3716280"/>
            <a:ext cx="403704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21"/>
          <p:cNvPicPr/>
          <p:nvPr/>
        </p:nvPicPr>
        <p:blipFill>
          <a:blip r:embed="rId1"/>
          <a:stretch/>
        </p:blipFill>
        <p:spPr>
          <a:xfrm>
            <a:off x="0" y="0"/>
            <a:ext cx="327348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3635280" y="4869000"/>
            <a:ext cx="468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EPARAZIONE DEI LEM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3564000" y="404640"/>
            <a:ext cx="4392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SALDATURA E’ CARATTERIZZATA 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ipo di giu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orma della saldatura e del cor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mensioni del cor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ocesso utilizz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22"/>
          <p:cNvPicPr/>
          <p:nvPr/>
        </p:nvPicPr>
        <p:blipFill>
          <a:blip r:embed="rId1"/>
          <a:stretch/>
        </p:blipFill>
        <p:spPr>
          <a:xfrm>
            <a:off x="0" y="27000"/>
            <a:ext cx="5181480" cy="6831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5435640" y="33336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IPI DI GIU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5651640" y="1916280"/>
            <a:ext cx="2808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rma del cor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i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ves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ca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26"/>
          <p:cNvPicPr/>
          <p:nvPr/>
        </p:nvPicPr>
        <p:blipFill>
          <a:blip r:embed="rId2"/>
          <a:stretch/>
        </p:blipFill>
        <p:spPr>
          <a:xfrm>
            <a:off x="5292720" y="3754440"/>
            <a:ext cx="360036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23"/>
          <p:cNvPicPr/>
          <p:nvPr/>
        </p:nvPicPr>
        <p:blipFill>
          <a:blip r:embed="rId1"/>
          <a:stretch/>
        </p:blipFill>
        <p:spPr>
          <a:xfrm>
            <a:off x="31680" y="333360"/>
            <a:ext cx="9112320" cy="62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24"/>
          <p:cNvPicPr/>
          <p:nvPr/>
        </p:nvPicPr>
        <p:blipFill>
          <a:blip r:embed="rId1"/>
          <a:stretch/>
        </p:blipFill>
        <p:spPr>
          <a:xfrm>
            <a:off x="0" y="260280"/>
            <a:ext cx="9039240" cy="60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25"/>
          <p:cNvPicPr/>
          <p:nvPr/>
        </p:nvPicPr>
        <p:blipFill>
          <a:blip r:embed="rId1"/>
          <a:stretch/>
        </p:blipFill>
        <p:spPr>
          <a:xfrm>
            <a:off x="0" y="0"/>
            <a:ext cx="7020000" cy="67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27"/>
          <p:cNvPicPr/>
          <p:nvPr/>
        </p:nvPicPr>
        <p:blipFill>
          <a:blip r:embed="rId1"/>
          <a:stretch/>
        </p:blipFill>
        <p:spPr>
          <a:xfrm>
            <a:off x="0" y="0"/>
            <a:ext cx="467532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28"/>
          <p:cNvPicPr/>
          <p:nvPr/>
        </p:nvPicPr>
        <p:blipFill>
          <a:blip r:embed="rId1"/>
          <a:stretch/>
        </p:blipFill>
        <p:spPr>
          <a:xfrm>
            <a:off x="0" y="0"/>
            <a:ext cx="635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29"/>
          <p:cNvPicPr/>
          <p:nvPr/>
        </p:nvPicPr>
        <p:blipFill>
          <a:blip r:embed="rId1"/>
          <a:stretch/>
        </p:blipFill>
        <p:spPr>
          <a:xfrm>
            <a:off x="0" y="0"/>
            <a:ext cx="9088560" cy="58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30"/>
          <p:cNvPicPr/>
          <p:nvPr/>
        </p:nvPicPr>
        <p:blipFill>
          <a:blip r:embed="rId1"/>
          <a:stretch/>
        </p:blipFill>
        <p:spPr>
          <a:xfrm>
            <a:off x="0" y="0"/>
            <a:ext cx="651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0" y="0"/>
            <a:ext cx="3851280" cy="56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ratura median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rapanatura: per chiodi di piccole dimens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unzonatura: per lamiere sottil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resatura: per fori di grandi dimensioni (oltre 12-16 m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fresa"/>
          <p:cNvPicPr/>
          <p:nvPr/>
        </p:nvPicPr>
        <p:blipFill>
          <a:blip r:embed="rId1"/>
          <a:stretch/>
        </p:blipFill>
        <p:spPr>
          <a:xfrm>
            <a:off x="4284720" y="4581360"/>
            <a:ext cx="2952720" cy="2092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trapano"/>
          <p:cNvPicPr/>
          <p:nvPr/>
        </p:nvPicPr>
        <p:blipFill>
          <a:blip r:embed="rId2"/>
          <a:stretch/>
        </p:blipFill>
        <p:spPr>
          <a:xfrm>
            <a:off x="3851280" y="0"/>
            <a:ext cx="3313080" cy="1817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punzonatrice"/>
          <p:cNvPicPr/>
          <p:nvPr/>
        </p:nvPicPr>
        <p:blipFill>
          <a:blip r:embed="rId3"/>
          <a:stretch/>
        </p:blipFill>
        <p:spPr>
          <a:xfrm>
            <a:off x="1042920" y="2708280"/>
            <a:ext cx="3792600" cy="1554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punzone"/>
          <p:cNvPicPr/>
          <p:nvPr/>
        </p:nvPicPr>
        <p:blipFill>
          <a:blip r:embed="rId4"/>
          <a:stretch/>
        </p:blipFill>
        <p:spPr>
          <a:xfrm>
            <a:off x="5796000" y="2276640"/>
            <a:ext cx="2162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31"/>
          <p:cNvPicPr/>
          <p:nvPr/>
        </p:nvPicPr>
        <p:blipFill>
          <a:blip r:embed="rId1"/>
          <a:stretch/>
        </p:blipFill>
        <p:spPr>
          <a:xfrm>
            <a:off x="0" y="0"/>
            <a:ext cx="9144000" cy="58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32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1846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"/>
          <p:cNvSpPr/>
          <p:nvPr/>
        </p:nvSpPr>
        <p:spPr>
          <a:xfrm>
            <a:off x="1619280" y="476280"/>
            <a:ext cx="59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COLLAGG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33"/>
          <p:cNvPicPr/>
          <p:nvPr/>
        </p:nvPicPr>
        <p:blipFill>
          <a:blip r:embed="rId1"/>
          <a:stretch/>
        </p:blipFill>
        <p:spPr>
          <a:xfrm>
            <a:off x="826920" y="0"/>
            <a:ext cx="7452000" cy="67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34"/>
          <p:cNvPicPr/>
          <p:nvPr/>
        </p:nvPicPr>
        <p:blipFill>
          <a:blip r:embed="rId1"/>
          <a:stretch/>
        </p:blipFill>
        <p:spPr>
          <a:xfrm>
            <a:off x="0" y="0"/>
            <a:ext cx="9144000" cy="37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35"/>
          <p:cNvPicPr/>
          <p:nvPr/>
        </p:nvPicPr>
        <p:blipFill>
          <a:blip r:embed="rId1"/>
          <a:stretch/>
        </p:blipFill>
        <p:spPr>
          <a:xfrm>
            <a:off x="1619280" y="189000"/>
            <a:ext cx="5889600" cy="40464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1692360" y="4508640"/>
            <a:ext cx="57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COLLAGGIO DI TU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36"/>
          <p:cNvPicPr/>
          <p:nvPr/>
        </p:nvPicPr>
        <p:blipFill>
          <a:blip r:embed="rId1"/>
          <a:stretch/>
        </p:blipFill>
        <p:spPr>
          <a:xfrm>
            <a:off x="0" y="0"/>
            <a:ext cx="49068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5292720" y="98100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GGRAFF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250920" y="333360"/>
            <a:ext cx="813744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ATERIALI PER CHIODA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 fredd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cciai dolci ed extradol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ché molto dutti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ttone, rame, leghe legg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 cald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cciai dolci ed extradolc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ché poco temprabi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ins7im8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lab_prev1"/>
          <p:cNvPicPr/>
          <p:nvPr/>
        </p:nvPicPr>
        <p:blipFill>
          <a:blip r:embed="rId1"/>
          <a:stretch/>
        </p:blipFill>
        <p:spPr>
          <a:xfrm>
            <a:off x="468360" y="189000"/>
            <a:ext cx="2484360" cy="2484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lab_prev2"/>
          <p:cNvPicPr/>
          <p:nvPr/>
        </p:nvPicPr>
        <p:blipFill>
          <a:blip r:embed="rId2"/>
          <a:stretch/>
        </p:blipFill>
        <p:spPr>
          <a:xfrm>
            <a:off x="395280" y="3429000"/>
            <a:ext cx="2556000" cy="2556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7"/>
          <p:cNvSpPr/>
          <p:nvPr/>
        </p:nvSpPr>
        <p:spPr>
          <a:xfrm>
            <a:off x="0" y="6021360"/>
            <a:ext cx="43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FC: Da 900 a 1400 gradi centigra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0" y="2781360"/>
            <a:ext cx="37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CC: Sino a 900 gradi centigra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3780000" y="1125360"/>
            <a:ext cx="504000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er effetto del brusco raffreddamento la struttura tenta di modificarsi da CCC a CFC ma non riesce ad espellere gli atomi di carbon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struttura assume le dimensioni di CCC con all’interno gli atomi di carbonio, deformandos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reticolo è molto resistente all’usura ed ha elevata durezza, ma meccanicamente frag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cco perché anche nella chiodatura a caldo si utilizzano acciai dolci o extradolci ovvero a basso tenore di carbonio perché poco temprabil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ltrimenti si rischia la fragilità del chiodo proprio nei punti più crit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3203640" y="404640"/>
            <a:ext cx="475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3419640" y="333360"/>
            <a:ext cx="44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erché acciai poco temprabili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52578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5580000" y="692280"/>
            <a:ext cx="3313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HIODATU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hiodi e rivetti, normativa UNI di riferiment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4r"/>
          <p:cNvPicPr/>
          <p:nvPr/>
        </p:nvPicPr>
        <p:blipFill>
          <a:blip r:embed="rId1"/>
          <a:stretch/>
        </p:blipFill>
        <p:spPr>
          <a:xfrm>
            <a:off x="0" y="0"/>
            <a:ext cx="9144000" cy="51339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4"/>
          <p:cNvSpPr/>
          <p:nvPr/>
        </p:nvSpPr>
        <p:spPr>
          <a:xfrm>
            <a:off x="611280" y="494172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rature per chiodi (forme del fo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4T03:16:43Z</dcterms:created>
  <dc:creator>PELLEGRINO</dc:creator>
  <dc:description/>
  <dc:language>en-US</dc:language>
  <cp:lastModifiedBy>240</cp:lastModifiedBy>
  <dcterms:modified xsi:type="dcterms:W3CDTF">2013-05-13T16:06:58Z</dcterms:modified>
  <cp:revision>9</cp:revision>
  <dc:subject/>
  <dc:title>Diapositiva 1</dc:title>
</cp:coreProperties>
</file>